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C29-40EE-49B9-AED8-A8CA6EFC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6B0-335F-4C17-A6C0-B6471CFB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6B3-F2A5-4F69-AF04-1BAF5B90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CC7-ABB9-4770-997B-9C9299F6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89F-3669-4AEB-89F7-6FE45159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A726-B534-4E87-A4E6-A1C712B0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22E-7B0E-4C03-A035-5FC285FE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753-EE6E-4249-91FD-5532534D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F796-F915-4829-89FB-1D385A43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483D-DAB7-4EFF-910F-430AD554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842-64C1-44D4-A4B8-58A4E491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01F-312A-4574-A53E-C7C71C0A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BB48-B285-42B8-A676-A10913E0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~PP2688.WAV" TargetMode="External"/><Relationship Id="rId2" Type="http://schemas.microsoft.com/office/2007/relationships/media" Target="file:///tmp/home/.config/libreoffice/4/user/gallery/~PP2688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file:///tmp/home/.config/libreoffice/4/user/gallery/~PP3271.WAV" TargetMode="External"/><Relationship Id="rId4" Type="http://schemas.microsoft.com/office/2007/relationships/media" Target="file:///tmp/home/.config/libreoffice/4/user/gallery/~PP3271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file:///tmp/home/.config/libreoffice/4/user/gallery/~PP3159.WAV" TargetMode="External"/><Relationship Id="rId3" Type="http://schemas.microsoft.com/office/2007/relationships/media" Target="file:///tmp/home/.config/libreoffice/4/user/gallery/~PP315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~PP1670.WAV" TargetMode="External"/><Relationship Id="rId3" Type="http://schemas.microsoft.com/office/2007/relationships/media" Target="file:///tmp/home/.config/libreoffice/4/user/gallery/~PP167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file:///tmp/home/.config/libreoffice/4/user/gallery/~PP1933.WAV" TargetMode="External"/><Relationship Id="rId3" Type="http://schemas.microsoft.com/office/2007/relationships/media" Target="file:///tmp/home/.config/libreoffice/4/user/gallery/~PP19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~PP3134.WAV" TargetMode="External"/><Relationship Id="rId3" Type="http://schemas.microsoft.com/office/2007/relationships/media" Target="file:///tmp/home/.config/libreoffice/4/user/gallery/~PP3134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~PP439.WAV" TargetMode="External"/><Relationship Id="rId3" Type="http://schemas.microsoft.com/office/2007/relationships/media" Target="file:///tmp/home/.config/libreoffice/4/user/gallery/~PP43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file:///tmp/home/.config/libreoffice/4/user/gallery/~PP59.WAV" TargetMode="External"/><Relationship Id="rId3" Type="http://schemas.microsoft.com/office/2007/relationships/media" Target="file:///tmp/home/.config/libreoffice/4/user/gallery/~PP5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file:///tmp/home/.config/libreoffice/4/user/gallery/~PP439.WAV" TargetMode="External"/><Relationship Id="rId3" Type="http://schemas.microsoft.com/office/2007/relationships/media" Target="file:///tmp/home/.config/libreoffice/4/user/gallery/~PP43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~PP918.WAV" TargetMode="External"/><Relationship Id="rId3" Type="http://schemas.microsoft.com/office/2007/relationships/media" Target="file:///tmp/home/.config/libreoffice/4/user/gallery/~PP9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file:///tmp/home/.config/libreoffice/4/user/gallery/~PP2101.WAV" TargetMode="External"/><Relationship Id="rId3" Type="http://schemas.microsoft.com/office/2007/relationships/media" Target="file:///tmp/home/.config/libreoffice/4/user/gallery/~PP2101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~PP2833.WAV" TargetMode="External"/><Relationship Id="rId3" Type="http://schemas.microsoft.com/office/2007/relationships/media" Target="file:///tmp/home/.config/libreoffice/4/user/gallery/~PP28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3112.WAV" TargetMode="External"/><Relationship Id="rId3" Type="http://schemas.microsoft.com/office/2007/relationships/media" Target="file:///tmp/home/.config/libreoffice/4/user/gallery/~PP311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~PP186.WAV" TargetMode="External"/><Relationship Id="rId3" Type="http://schemas.microsoft.com/office/2007/relationships/media" Target="file:///tmp/home/.config/libreoffice/4/user/gallery/~PP186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~PP215.WAV" TargetMode="External"/><Relationship Id="rId3" Type="http://schemas.microsoft.com/office/2007/relationships/media" Target="file:///tmp/home/.config/libreoffice/4/user/gallery/~PP215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file:///tmp/home/.config/libreoffice/4/user/gallery/~PP650.WAV" TargetMode="External"/><Relationship Id="rId3" Type="http://schemas.microsoft.com/office/2007/relationships/media" Target="file:///tmp/home/.config/libreoffice/4/user/gallery/~PP65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file:///tmp/home/.config/libreoffice/4/user/gallery/~PP2054.WAV" TargetMode="External"/><Relationship Id="rId4" Type="http://schemas.microsoft.com/office/2007/relationships/media" Target="file:///tmp/home/.config/libreoffice/4/user/gallery/~PP2054.WAV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ine Fer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hren H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mit meiner Hunde gelauf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3214800"/>
            <a:ext cx="3657600" cy="3100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52880" y="3276720"/>
            <a:ext cx="2867040" cy="2836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m Fluss geschwomm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4286160" cy="2877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6"/>
                </p:tgtEl>
              </p:cMediaNode>
            </p:audio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m das Auto gefahren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eine sehr, sehr lange Ze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14600" y="2971800"/>
            <a:ext cx="4991040" cy="2886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n der Wald ATV gefahr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4515120" cy="3395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2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bei das Feuer gebleiben, es war sehr warm und bequ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948120" cy="4000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5"/>
                </p:tgtEl>
              </p:cMediaNode>
            </p:audio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m die Kabine geschlaf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096240" cy="4057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letzt, bin ich nach zu Hause gefahren, in Illinois.  Es ist eine sehr lange Fahr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6438960" cy="294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52480" y="3352680"/>
            <a:ext cx="25146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124080"/>
            <a:ext cx="18288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3"/>
                </p:tgtEl>
              </p:cMediaNode>
            </p:audio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Du musst zu der Allegheny National Forest gehe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5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Pennsylvania, in die Mitte von die Allegheny National Wa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im Kabine gebleiben. Es heisst  “Freddy’s Hideaway” von meinem Grossvater. Es ist sehr alt und klein, aber bequ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5105160" cy="3405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n Marienville besichtig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5181480" cy="3888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m Kellys geg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324240" cy="1914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durch dem gross Wald gewande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5410440" cy="3909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Ruffled Grouse gejag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0400" y="2143080"/>
            <a:ext cx="2743200" cy="2571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2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mit mein Cousin Badminton gespiel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29000" y="2286000"/>
            <a:ext cx="2247840" cy="3486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5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meine Gewehre geschies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M Air Rifle Target Clip Art"/>
          <p:cNvPicPr/>
          <p:nvPr/>
        </p:nvPicPr>
        <p:blipFill>
          <a:blip r:embed="rId1"/>
          <a:stretch/>
        </p:blipFill>
        <p:spPr>
          <a:xfrm>
            <a:off x="4495680" y="29718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4267080"/>
            <a:ext cx="3238560" cy="762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8:19Z</dcterms:created>
  <dc:creator>CUSD220</dc:creator>
  <dc:description/>
  <dc:language>en-US</dc:language>
  <cp:lastModifiedBy>SHERRY MUMMERT</cp:lastModifiedBy>
  <dcterms:modified xsi:type="dcterms:W3CDTF">2011-11-17T22:42:22Z</dcterms:modified>
  <cp:revision>4</cp:revision>
  <dc:subject/>
  <dc:title>Meine Ferien</dc:title>
</cp:coreProperties>
</file>